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AEBF-D63C-4339-A640-5E347341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228C-7F6E-4854-AAE9-634FEF2D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4961-7A00-464B-93E7-A7CD9D96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A972-BD32-4453-93CF-7E4A27F1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22E8-6C09-4C12-97BE-7223DE61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E0F6-6B2C-440B-AC0F-240FA179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11CC-89CF-4DCF-98FD-66139A99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9A9E-B372-473A-88BD-2B54B55B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FE6E-4E04-494F-9DDD-BF78AFB6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48BB-D1DF-4DD9-9012-DBCC6562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2EC0-E0B6-4902-866A-3812D345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2BF8-FFDA-482C-9B4A-944E8EB9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488D-0832-4608-AC4D-0D833B9AF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hapter explains how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terfaces to describe the structure of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terfaces to ensure the interoperability of the classes within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lasses can implement multiple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s between interfaces and abstract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use interfaces in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interfaces for all classes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coding the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s and interoper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plugs of electric appliances – they all fit all the out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has interfaces that can be used in a similar fashion – to ensure that the objects exhibit a common inte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interface Display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 void display (Graphics pape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class Square implements Displayable {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416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faces and the Java Libra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ical programs in the text us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class Any extends JFrame implements ActionList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gram conforms to the library interface ActionLis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gram must provide all methods described in the interface – only one method in this case ‘actionPerformed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programs cre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tton object, it then calls addActionListener of the button object to tell which event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ton.addActionListener(thi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when the event occurs ‘actionPerformed’ is ca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mplements ActionListener omitted – program will not compile cor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s are forced to declare the classes they are implementing, an interface and provide the associated method within the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V has both an interface to a power source and a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can specify that a class may implement a number of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ass may only inherit from one class, it can implement from any number of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2057400"/>
            <a:ext cx="2286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23623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47200" y="3541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ll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350532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352680" y="3200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32004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++ allows multiple inheritance – Java does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simple but powerful. Avoids some confusion that can occur with multiple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a hea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class Game extends JFrame implements interfaceA, interfaceB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9480" y="609480"/>
            <a:ext cx="2438640" cy="175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609480"/>
            <a:ext cx="220968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&lt;Interface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24480" y="609480"/>
            <a:ext cx="2133720" cy="175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&lt;Interface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05320" y="3352680"/>
            <a:ext cx="259056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2819160" y="259056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800600" y="2590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095880" y="251424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faces versus abstract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(see Chapter 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 of an abstract class to describe, as a superclass common features of a group of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bstract class often provides implementation of som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 class can implement more than one interface but only inherit from one abstract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provides notation for describing the outward appearance of a class, called an interface. An interface is just like the description of a class but with the bodies of methods omitted. Do not confuse the use of the word interface with the same word in the graphical sense (GU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uses for interfac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mote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An interface is used at compile time (perform error checking) By contrast, an abstract class implies inheritance, links the appropriate method at run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n abstract class implies that it’s abstract methods will be fleshed out by classes that extend it. Inheritance expected. An interface simply specifies the skeleton for a class with no implication that it will be used for inheri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s are used to describe the services provided by a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s are useful for describing structure of the program. The description is checked by the Java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s can be used to ensure a class conforms to a particular interface – supports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supports multiple interfaces but supports only single inheri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s for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portance of design in large programs is often emphasized. Designing all classes, specification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names, methods (In Engli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lass Ball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interface BalloonInterfac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changeSize (int new Diameter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getX(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setX( int 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display (Graphics paper)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ice ‘class’ omitted in the interface descri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not public as they are implicitly public. Only method names and their parameters are described in the interface. Bodies of methods are omit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terface describes a class but not how the methods and data items are implemented – it describes only the services provided by the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represents the outward appearance of the class – and also tells what the person who implements it must prov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interface may be compiled with other classes but can not be execu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se the interface, compile it and the program – checking that it is being used cor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mplement the interface, example Ball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class Balloon implements BalloonInterface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int diameter, x ,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void changeSize( int newDiameter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meter = new Diameter … } // other lin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Balloon on pages 433-4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oon interface will be checked at compile time with the class Balloon. It must provide the methods: changeSize, setX, getX and display (in the case of the Balloon exam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implement an interface you have to implement every method described by the inte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L class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3733920"/>
            <a:ext cx="205740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5105520"/>
            <a:ext cx="2133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533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l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3886200"/>
            <a:ext cx="1904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&lt;Interface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loon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11480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Colored Ball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interface ColoredBalloon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s BalloonInterfac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d setColor (Color color); }//inherits from BalloonInterface  ColoredBalloonInterface has an additional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describe the classes in a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heritance structure in a program, the ‘is a’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nterfaces can not descri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plementations of methods (the whole point of interfac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classes use which other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‘has a’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4:32:52Z</dcterms:created>
  <dc:creator> </dc:creator>
  <dc:description/>
  <dc:language>en-US</dc:language>
  <cp:lastModifiedBy> </cp:lastModifiedBy>
  <dcterms:modified xsi:type="dcterms:W3CDTF">2005-05-12T14:53:01Z</dcterms:modified>
  <cp:revision>3</cp:revision>
  <dc:subject/>
  <dc:title>Interfaces Chapter 23</dc:title>
</cp:coreProperties>
</file>